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29768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386787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148840" y="9819360"/>
            <a:ext cx="386787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14884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196828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5226200" y="427932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8303560" y="427932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148840" y="981936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15226200" y="981936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28303560" y="981936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148840" y="4279320"/>
            <a:ext cx="386787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37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386787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148840" y="729360"/>
            <a:ext cx="38678760" cy="141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884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148840" y="4279320"/>
            <a:ext cx="386787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37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96828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8840" y="9819360"/>
            <a:ext cx="386787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386787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48840" y="9819360"/>
            <a:ext cx="386787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14884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196828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5226200" y="427932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303560" y="427932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148840" y="981936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15226200" y="981936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28303560" y="9819360"/>
            <a:ext cx="124542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386787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48840" y="729360"/>
            <a:ext cx="38678760" cy="141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4884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10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968280" y="981936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8840" y="729360"/>
            <a:ext cx="38678760" cy="30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62"/>
              </a:spcBef>
              <a:buNone/>
              <a:tabLst>
                <a:tab algn="l" pos="0"/>
                <a:tab algn="l" pos="2900520"/>
                <a:tab algn="l" pos="5800680"/>
                <a:tab algn="l" pos="87012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4884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1968280" y="4279320"/>
            <a:ext cx="188751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148840" y="9819360"/>
            <a:ext cx="3867876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74"/>
              </a:spcBef>
              <a:buNone/>
              <a:tabLst>
                <a:tab algn="l" pos="2900520"/>
                <a:tab algn="l" pos="5800680"/>
                <a:tab algn="l" pos="87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453960"/>
            <a:ext cx="5679360" cy="887040"/>
            <a:chOff x="533520" y="453960"/>
            <a:chExt cx="5679360" cy="887040"/>
          </a:xfrm>
        </p:grpSpPr>
        <p:sp>
          <p:nvSpPr>
            <p:cNvPr id="1" name=""/>
            <p:cNvSpPr/>
            <p:nvPr/>
          </p:nvSpPr>
          <p:spPr>
            <a:xfrm>
              <a:off x="533520" y="453960"/>
              <a:ext cx="88704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158" y="61"/>
                  </a:moveTo>
                  <a:cubicBezTo>
                    <a:pt x="158" y="96"/>
                    <a:pt x="158" y="96"/>
                    <a:pt x="158" y="96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6"/>
                    <a:pt x="204" y="90"/>
                    <a:pt x="204" y="81"/>
                  </a:cubicBezTo>
                  <a:cubicBezTo>
                    <a:pt x="204" y="15"/>
                    <a:pt x="204" y="15"/>
                    <a:pt x="204" y="15"/>
                  </a:cubicBezTo>
                  <a:cubicBezTo>
                    <a:pt x="204" y="7"/>
                    <a:pt x="197" y="0"/>
                    <a:pt x="189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15" y="0"/>
                    <a:pt x="108" y="7"/>
                    <a:pt x="108" y="15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51" y="46"/>
                    <a:pt x="158" y="53"/>
                    <a:pt x="158" y="61"/>
                  </a:cubicBezTo>
                  <a:moveTo>
                    <a:pt x="46" y="61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7" y="96"/>
                    <a:pt x="0" y="90"/>
                    <a:pt x="0" y="8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9" y="0"/>
                    <a:pt x="96" y="7"/>
                    <a:pt x="96" y="1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53" y="46"/>
                    <a:pt x="46" y="53"/>
                    <a:pt x="46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923400"/>
              <a:ext cx="88704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46" y="35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7" y="96"/>
                    <a:pt x="15" y="96"/>
                  </a:cubicBezTo>
                  <a:cubicBezTo>
                    <a:pt x="81" y="96"/>
                    <a:pt x="81" y="96"/>
                    <a:pt x="81" y="96"/>
                  </a:cubicBezTo>
                  <a:cubicBezTo>
                    <a:pt x="89" y="96"/>
                    <a:pt x="96" y="90"/>
                    <a:pt x="96" y="81"/>
                  </a:cubicBezTo>
                  <a:cubicBezTo>
                    <a:pt x="96" y="50"/>
                    <a:pt x="96" y="50"/>
                    <a:pt x="96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53" y="50"/>
                    <a:pt x="46" y="44"/>
                    <a:pt x="46" y="35"/>
                  </a:cubicBezTo>
                  <a:moveTo>
                    <a:pt x="158" y="35"/>
                  </a:moveTo>
                  <a:cubicBezTo>
                    <a:pt x="158" y="0"/>
                    <a:pt x="158" y="0"/>
                    <a:pt x="158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97" y="0"/>
                    <a:pt x="204" y="7"/>
                    <a:pt x="204" y="15"/>
                  </a:cubicBezTo>
                  <a:cubicBezTo>
                    <a:pt x="204" y="81"/>
                    <a:pt x="204" y="81"/>
                    <a:pt x="204" y="81"/>
                  </a:cubicBezTo>
                  <a:cubicBezTo>
                    <a:pt x="204" y="90"/>
                    <a:pt x="197" y="96"/>
                    <a:pt x="189" y="9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15" y="96"/>
                    <a:pt x="108" y="90"/>
                    <a:pt x="108" y="81"/>
                  </a:cubicBezTo>
                  <a:cubicBezTo>
                    <a:pt x="108" y="50"/>
                    <a:pt x="108" y="50"/>
                    <a:pt x="108" y="50"/>
                  </a:cubicBezTo>
                  <a:cubicBezTo>
                    <a:pt x="143" y="50"/>
                    <a:pt x="143" y="50"/>
                    <a:pt x="143" y="50"/>
                  </a:cubicBezTo>
                  <a:cubicBezTo>
                    <a:pt x="151" y="50"/>
                    <a:pt x="158" y="44"/>
                    <a:pt x="158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63880" y="1123560"/>
              <a:ext cx="144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19280" y="650880"/>
              <a:ext cx="38304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4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4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4" y="28"/>
                    <a:pt x="59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59" y="97"/>
                    <a:pt x="64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059560" y="65448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6800" y="785160"/>
              <a:ext cx="309240" cy="36432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50" y="34"/>
                  </a:moveTo>
                  <a:cubicBezTo>
                    <a:pt x="50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50" y="34"/>
                  </a:lnTo>
                  <a:close/>
                  <a:moveTo>
                    <a:pt x="21" y="47"/>
                  </a:moveTo>
                  <a:cubicBezTo>
                    <a:pt x="21" y="57"/>
                    <a:pt x="26" y="68"/>
                    <a:pt x="37" y="68"/>
                  </a:cubicBezTo>
                  <a:cubicBezTo>
                    <a:pt x="44" y="68"/>
                    <a:pt x="48" y="64"/>
                    <a:pt x="51" y="57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6" y="75"/>
                    <a:pt x="51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2" y="0"/>
                    <a:pt x="35" y="0"/>
                  </a:cubicBezTo>
                  <a:cubicBezTo>
                    <a:pt x="56" y="0"/>
                    <a:pt x="71" y="10"/>
                    <a:pt x="71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67760" y="785160"/>
              <a:ext cx="309240" cy="36432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49" y="34"/>
                  </a:moveTo>
                  <a:cubicBezTo>
                    <a:pt x="49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49" y="34"/>
                  </a:lnTo>
                  <a:close/>
                  <a:moveTo>
                    <a:pt x="21" y="47"/>
                  </a:moveTo>
                  <a:cubicBezTo>
                    <a:pt x="20" y="57"/>
                    <a:pt x="26" y="68"/>
                    <a:pt x="37" y="68"/>
                  </a:cubicBezTo>
                  <a:cubicBezTo>
                    <a:pt x="44" y="68"/>
                    <a:pt x="48" y="64"/>
                    <a:pt x="50" y="57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66" y="75"/>
                    <a:pt x="50" y="84"/>
                    <a:pt x="35" y="84"/>
                  </a:cubicBezTo>
                  <a:cubicBezTo>
                    <a:pt x="11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5" y="0"/>
                    <a:pt x="71" y="10"/>
                    <a:pt x="70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38360" y="794520"/>
              <a:ext cx="312840" cy="34740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13" y="189"/>
                  </a:moveTo>
                  <a:lnTo>
                    <a:pt x="59" y="189"/>
                  </a:lnTo>
                  <a:lnTo>
                    <a:pt x="0" y="0"/>
                  </a:lnTo>
                  <a:lnTo>
                    <a:pt x="52" y="0"/>
                  </a:lnTo>
                  <a:lnTo>
                    <a:pt x="85" y="139"/>
                  </a:lnTo>
                  <a:lnTo>
                    <a:pt x="87" y="139"/>
                  </a:lnTo>
                  <a:lnTo>
                    <a:pt x="120" y="0"/>
                  </a:lnTo>
                  <a:lnTo>
                    <a:pt x="170" y="0"/>
                  </a:lnTo>
                  <a:lnTo>
                    <a:pt x="113" y="189"/>
                  </a:lnTo>
                  <a:lnTo>
                    <a:pt x="113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8200" y="654480"/>
              <a:ext cx="9180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840" y="785160"/>
              <a:ext cx="312480" cy="36432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48" y="45"/>
                  </a:moveTo>
                  <a:cubicBezTo>
                    <a:pt x="39" y="47"/>
                    <a:pt x="21" y="48"/>
                    <a:pt x="21" y="60"/>
                  </a:cubicBezTo>
                  <a:cubicBezTo>
                    <a:pt x="21" y="64"/>
                    <a:pt x="24" y="68"/>
                    <a:pt x="29" y="68"/>
                  </a:cubicBezTo>
                  <a:cubicBezTo>
                    <a:pt x="37" y="68"/>
                    <a:pt x="43" y="63"/>
                    <a:pt x="48" y="58"/>
                  </a:cubicBezTo>
                  <a:lnTo>
                    <a:pt x="48" y="45"/>
                  </a:lnTo>
                  <a:close/>
                  <a:moveTo>
                    <a:pt x="49" y="75"/>
                  </a:moveTo>
                  <a:cubicBezTo>
                    <a:pt x="41" y="81"/>
                    <a:pt x="36" y="84"/>
                    <a:pt x="26" y="84"/>
                  </a:cubicBezTo>
                  <a:cubicBezTo>
                    <a:pt x="12" y="84"/>
                    <a:pt x="0" y="75"/>
                    <a:pt x="0" y="60"/>
                  </a:cubicBezTo>
                  <a:cubicBezTo>
                    <a:pt x="0" y="37"/>
                    <a:pt x="30" y="33"/>
                    <a:pt x="48" y="31"/>
                  </a:cubicBezTo>
                  <a:cubicBezTo>
                    <a:pt x="49" y="20"/>
                    <a:pt x="45" y="16"/>
                    <a:pt x="37" y="16"/>
                  </a:cubicBezTo>
                  <a:cubicBezTo>
                    <a:pt x="31" y="16"/>
                    <a:pt x="26" y="19"/>
                    <a:pt x="24" y="2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9" y="5"/>
                    <a:pt x="20" y="0"/>
                    <a:pt x="37" y="0"/>
                  </a:cubicBezTo>
                  <a:cubicBezTo>
                    <a:pt x="59" y="0"/>
                    <a:pt x="69" y="10"/>
                    <a:pt x="69" y="25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71"/>
                    <a:pt x="69" y="77"/>
                    <a:pt x="72" y="82"/>
                  </a:cubicBezTo>
                  <a:cubicBezTo>
                    <a:pt x="51" y="82"/>
                    <a:pt x="51" y="82"/>
                    <a:pt x="51" y="82"/>
                  </a:cubicBezTo>
                  <a:cubicBezTo>
                    <a:pt x="49" y="79"/>
                    <a:pt x="49" y="75"/>
                    <a:pt x="49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55520" y="785160"/>
              <a:ext cx="290520" cy="3567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6640" y="650880"/>
              <a:ext cx="38304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5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5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5" y="28"/>
                    <a:pt x="60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60" y="97"/>
                    <a:pt x="65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55120" y="654480"/>
              <a:ext cx="9540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265"/>
                  </a:lnTo>
                  <a:lnTo>
                    <a:pt x="52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26480" y="654480"/>
              <a:ext cx="9540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2" y="76"/>
                  </a:lnTo>
                  <a:lnTo>
                    <a:pt x="52" y="265"/>
                  </a:lnTo>
                  <a:lnTo>
                    <a:pt x="52" y="265"/>
                  </a:lnTo>
                  <a:close/>
                  <a:moveTo>
                    <a:pt x="5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95680" y="785160"/>
              <a:ext cx="290520" cy="3567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760360" y="654480"/>
              <a:ext cx="9180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0" y="76"/>
                  </a:lnTo>
                  <a:lnTo>
                    <a:pt x="50" y="265"/>
                  </a:lnTo>
                  <a:lnTo>
                    <a:pt x="50" y="265"/>
                  </a:lnTo>
                  <a:close/>
                  <a:moveTo>
                    <a:pt x="50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913000" y="785160"/>
              <a:ext cx="299880" cy="36432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56"/>
                  </a:moveTo>
                  <a:cubicBezTo>
                    <a:pt x="65" y="73"/>
                    <a:pt x="53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3" y="0"/>
                    <a:pt x="65" y="11"/>
                    <a:pt x="69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8" y="24"/>
                    <a:pt x="46" y="16"/>
                    <a:pt x="35" y="16"/>
                  </a:cubicBezTo>
                  <a:cubicBezTo>
                    <a:pt x="23" y="16"/>
                    <a:pt x="21" y="32"/>
                    <a:pt x="21" y="42"/>
                  </a:cubicBezTo>
                  <a:cubicBezTo>
                    <a:pt x="21" y="52"/>
                    <a:pt x="23" y="68"/>
                    <a:pt x="35" y="68"/>
                  </a:cubicBezTo>
                  <a:cubicBezTo>
                    <a:pt x="46" y="68"/>
                    <a:pt x="47" y="61"/>
                    <a:pt x="49" y="54"/>
                  </a:cubicBezTo>
                  <a:lnTo>
                    <a:pt x="69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8680" y="654480"/>
              <a:ext cx="320400" cy="49500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50" y="87"/>
                  </a:moveTo>
                  <a:cubicBezTo>
                    <a:pt x="46" y="92"/>
                    <a:pt x="42" y="96"/>
                    <a:pt x="36" y="96"/>
                  </a:cubicBezTo>
                  <a:cubicBezTo>
                    <a:pt x="23" y="96"/>
                    <a:pt x="21" y="80"/>
                    <a:pt x="21" y="71"/>
                  </a:cubicBezTo>
                  <a:cubicBezTo>
                    <a:pt x="21" y="62"/>
                    <a:pt x="24" y="47"/>
                    <a:pt x="35" y="47"/>
                  </a:cubicBezTo>
                  <a:cubicBezTo>
                    <a:pt x="42" y="47"/>
                    <a:pt x="46" y="51"/>
                    <a:pt x="50" y="56"/>
                  </a:cubicBezTo>
                  <a:lnTo>
                    <a:pt x="50" y="87"/>
                  </a:lnTo>
                  <a:close/>
                  <a:moveTo>
                    <a:pt x="71" y="98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4" y="34"/>
                    <a:pt x="38" y="30"/>
                    <a:pt x="30" y="30"/>
                  </a:cubicBezTo>
                  <a:cubicBezTo>
                    <a:pt x="18" y="30"/>
                    <a:pt x="0" y="40"/>
                    <a:pt x="0" y="70"/>
                  </a:cubicBezTo>
                  <a:cubicBezTo>
                    <a:pt x="0" y="104"/>
                    <a:pt x="15" y="114"/>
                    <a:pt x="32" y="114"/>
                  </a:cubicBezTo>
                  <a:cubicBezTo>
                    <a:pt x="40" y="114"/>
                    <a:pt x="45" y="111"/>
                    <a:pt x="52" y="105"/>
                  </a:cubicBezTo>
                  <a:cubicBezTo>
                    <a:pt x="52" y="105"/>
                    <a:pt x="52" y="109"/>
                    <a:pt x="54" y="112"/>
                  </a:cubicBezTo>
                  <a:cubicBezTo>
                    <a:pt x="74" y="112"/>
                    <a:pt x="74" y="112"/>
                    <a:pt x="74" y="112"/>
                  </a:cubicBezTo>
                  <a:cubicBezTo>
                    <a:pt x="72" y="108"/>
                    <a:pt x="71" y="103"/>
                    <a:pt x="71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827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75400" rIns="1175400" tIns="587520" bIns="587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255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75400" rIns="1175400" tIns="587520" bIns="587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762776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75400" rIns="1175400" tIns="587520" bIns="587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59999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75400" rIns="1175400" tIns="587520" bIns="587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4374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75400" rIns="1175400" tIns="587520" bIns="587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280" y="6908760"/>
            <a:ext cx="3688884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0" lang="en-US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of Presentation </a:t>
            </a:r>
            <a:br>
              <a:rPr sz="12100"/>
            </a:br>
            <a:r>
              <a:rPr b="0" lang="en-US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ial Regular 38p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29080" y="13614480"/>
            <a:ext cx="3360420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Nam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Titl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38760" y="3027240"/>
            <a:ext cx="1396836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wmf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4.png"/><Relationship Id="rId31" Type="http://schemas.openxmlformats.org/officeDocument/2006/relationships/image" Target="../media/image18.jpe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77"/>
          <p:cNvGrpSpPr/>
          <p:nvPr/>
        </p:nvGrpSpPr>
        <p:grpSpPr>
          <a:xfrm>
            <a:off x="28879920" y="6045120"/>
            <a:ext cx="2290680" cy="1387440"/>
            <a:chOff x="28879920" y="6045120"/>
            <a:chExt cx="2290680" cy="1387440"/>
          </a:xfrm>
        </p:grpSpPr>
        <p:pic>
          <p:nvPicPr>
            <p:cNvPr id="100" name="Group 7" descr=""/>
            <p:cNvPicPr/>
            <p:nvPr/>
          </p:nvPicPr>
          <p:blipFill>
            <a:blip r:embed="rId1"/>
            <a:stretch/>
          </p:blipFill>
          <p:spPr>
            <a:xfrm>
              <a:off x="28879920" y="6045120"/>
              <a:ext cx="22906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72"/>
            <p:cNvSpPr/>
            <p:nvPr/>
          </p:nvSpPr>
          <p:spPr>
            <a:xfrm>
              <a:off x="29337120" y="6869160"/>
              <a:ext cx="1434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Ontology &amp; Knowledg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47076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9548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180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1704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13560" y="526680"/>
            <a:ext cx="283640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920" rIns="385920" tIns="192960" bIns="192960" anchor="ctr">
            <a:spAutoFit/>
          </a:bodyPr>
          <a:p>
            <a:pPr algn="ctr">
              <a:tabLst>
                <a:tab algn="l" pos="0"/>
                <a:tab algn="l" pos="3835440"/>
                <a:tab algn="l" pos="7670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tic Integration of Clinical Data for Outcomes Research and Repor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35440"/>
                <a:tab algn="l" pos="767088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ristopher Pierce, Chimezie Ogbuji, Sivaram Arabandi and John Cl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3835440"/>
                <a:tab algn="l" pos="7670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and Vascular Institute, Cleveland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71440" y="395280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7960" y="4071960"/>
            <a:ext cx="667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85240" y="4048200"/>
            <a:ext cx="6604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5760" y="4067280"/>
            <a:ext cx="6399360" cy="53172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708040" y="4067280"/>
            <a:ext cx="6216840" cy="50616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ry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805880" y="4076640"/>
            <a:ext cx="6942240" cy="52380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2900520"/>
                <a:tab algn="l" pos="5800680"/>
                <a:tab algn="l" pos="8701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s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DBArchitectureOverview" descr=""/>
          <p:cNvPicPr/>
          <p:nvPr/>
        </p:nvPicPr>
        <p:blipFill>
          <a:blip r:embed="rId2"/>
          <a:stretch/>
        </p:blipFill>
        <p:spPr>
          <a:xfrm>
            <a:off x="9307440" y="10402920"/>
            <a:ext cx="7661520" cy="717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41560" y="12053880"/>
            <a:ext cx="73152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75200" y="14701680"/>
            <a:ext cx="226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ly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27080" y="12111120"/>
            <a:ext cx="185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ndant within a few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2949200"/>
            <a:ext cx="1371600" cy="53352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12949200"/>
            <a:ext cx="1295280" cy="17524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198920" y="12625560"/>
            <a:ext cx="95400" cy="7808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751000" y="12415680"/>
            <a:ext cx="838440" cy="1526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625800">
            <a:off x="6415560" y="1373112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y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5640" y="1247760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707000">
            <a:off x="5810760" y="1663020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ry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12949200"/>
            <a:ext cx="2057400" cy="12952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3560" y="11806200"/>
            <a:ext cx="28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unique to singl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5336160" y="10109160"/>
            <a:ext cx="6653160" cy="969840"/>
          </a:xfrm>
          <a:prstGeom prst="rect">
            <a:avLst/>
          </a:pr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-wide population-centric clinical data sup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, outcomes, marketing, reporti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337600" y="7658280"/>
            <a:ext cx="598680" cy="24508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  treatment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men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5934480" y="7658280"/>
            <a:ext cx="598680" cy="2450880"/>
          </a:xfrm>
          <a:prstGeom prst="rect">
            <a:avLst/>
          </a:prstGeom>
          <a:solidFill>
            <a:srgbClr val="b4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 Registry data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6533160" y="7658280"/>
            <a:ext cx="598320" cy="1838160"/>
          </a:xfrm>
          <a:prstGeom prst="rect">
            <a:avLst/>
          </a:prstGeom>
          <a:solidFill>
            <a:srgbClr val="f9f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ient treatment 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partment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6533160" y="9496440"/>
            <a:ext cx="1195200" cy="612720"/>
          </a:xfrm>
          <a:prstGeom prst="rect">
            <a:avLst/>
          </a:prstGeom>
          <a:solidFill>
            <a:srgbClr val="a803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partmen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tient centr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5317080" y="6657840"/>
            <a:ext cx="5643720" cy="1019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-wide patient-centric clin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supporting patient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BD21312_"/>
          <p:cNvPicPr/>
          <p:nvPr/>
        </p:nvPicPr>
        <p:blipFill>
          <a:blip r:embed="rId4"/>
          <a:stretch/>
        </p:blipFill>
        <p:spPr>
          <a:xfrm>
            <a:off x="38070000" y="8731080"/>
            <a:ext cx="183960" cy="1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BD21312_"/>
          <p:cNvPicPr/>
          <p:nvPr/>
        </p:nvPicPr>
        <p:blipFill>
          <a:blip r:embed="rId5"/>
          <a:stretch/>
        </p:blipFill>
        <p:spPr>
          <a:xfrm>
            <a:off x="38338200" y="8731080"/>
            <a:ext cx="183960" cy="192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BD21312_"/>
          <p:cNvPicPr/>
          <p:nvPr/>
        </p:nvPicPr>
        <p:blipFill>
          <a:blip r:embed="rId6"/>
          <a:stretch/>
        </p:blipFill>
        <p:spPr>
          <a:xfrm>
            <a:off x="38595240" y="8731080"/>
            <a:ext cx="184320" cy="19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BD21312_"/>
          <p:cNvPicPr/>
          <p:nvPr/>
        </p:nvPicPr>
        <p:blipFill>
          <a:blip r:embed="rId7"/>
          <a:stretch/>
        </p:blipFill>
        <p:spPr>
          <a:xfrm>
            <a:off x="38839680" y="8731080"/>
            <a:ext cx="184320" cy="19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BD21312_"/>
          <p:cNvPicPr/>
          <p:nvPr/>
        </p:nvPicPr>
        <p:blipFill>
          <a:blip r:embed="rId8"/>
          <a:stretch/>
        </p:blipFill>
        <p:spPr>
          <a:xfrm>
            <a:off x="39097080" y="8731080"/>
            <a:ext cx="183960" cy="18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BD21312_"/>
          <p:cNvPicPr/>
          <p:nvPr/>
        </p:nvPicPr>
        <p:blipFill>
          <a:blip r:embed="rId9"/>
          <a:stretch/>
        </p:blipFill>
        <p:spPr>
          <a:xfrm>
            <a:off x="39352680" y="8731080"/>
            <a:ext cx="18396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BD21312_"/>
          <p:cNvPicPr/>
          <p:nvPr/>
        </p:nvPicPr>
        <p:blipFill>
          <a:blip r:embed="rId10"/>
          <a:stretch/>
        </p:blipFill>
        <p:spPr>
          <a:xfrm>
            <a:off x="39609720" y="8731080"/>
            <a:ext cx="18432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BD21312_"/>
          <p:cNvPicPr/>
          <p:nvPr/>
        </p:nvPicPr>
        <p:blipFill>
          <a:blip r:embed="rId11"/>
          <a:stretch/>
        </p:blipFill>
        <p:spPr>
          <a:xfrm>
            <a:off x="39877920" y="8731080"/>
            <a:ext cx="184320" cy="18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BD21312_"/>
          <p:cNvPicPr/>
          <p:nvPr/>
        </p:nvPicPr>
        <p:blipFill>
          <a:blip r:embed="rId12"/>
          <a:stretch/>
        </p:blipFill>
        <p:spPr>
          <a:xfrm>
            <a:off x="40133520" y="8731080"/>
            <a:ext cx="184320" cy="18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BD21312_"/>
          <p:cNvPicPr/>
          <p:nvPr/>
        </p:nvPicPr>
        <p:blipFill>
          <a:blip r:embed="rId13"/>
          <a:stretch/>
        </p:blipFill>
        <p:spPr>
          <a:xfrm>
            <a:off x="40400280" y="8731080"/>
            <a:ext cx="184320" cy="18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BD21312_"/>
          <p:cNvPicPr/>
          <p:nvPr/>
        </p:nvPicPr>
        <p:blipFill>
          <a:blip r:embed="rId14"/>
          <a:stretch/>
        </p:blipFill>
        <p:spPr>
          <a:xfrm>
            <a:off x="40657320" y="8734320"/>
            <a:ext cx="184320" cy="1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BD21312_"/>
          <p:cNvPicPr/>
          <p:nvPr/>
        </p:nvPicPr>
        <p:blipFill>
          <a:blip r:embed="rId15"/>
          <a:stretch/>
        </p:blipFill>
        <p:spPr>
          <a:xfrm>
            <a:off x="40903560" y="8734320"/>
            <a:ext cx="183960" cy="189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2"/>
          <p:cNvSpPr/>
          <p:nvPr/>
        </p:nvSpPr>
        <p:spPr>
          <a:xfrm>
            <a:off x="37131480" y="7658280"/>
            <a:ext cx="596880" cy="1838160"/>
          </a:xfrm>
          <a:prstGeom prst="rect">
            <a:avLst/>
          </a:prstGeom>
          <a:solidFill>
            <a:srgbClr val="f8c3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5"/>
          <p:cNvSpPr/>
          <p:nvPr/>
        </p:nvSpPr>
        <p:spPr>
          <a:xfrm>
            <a:off x="34770960" y="6638760"/>
            <a:ext cx="341280" cy="3470400"/>
          </a:xfrm>
          <a:custGeom>
            <a:avLst/>
            <a:gdLst>
              <a:gd name="textAreaLeft" fmla="*/ 218160 w 341280"/>
              <a:gd name="textAreaRight" fmla="*/ 341640 w 341280"/>
              <a:gd name="textAreaTop" fmla="*/ 88560 h 3470400"/>
              <a:gd name="textAreaBottom" fmla="*/ 3381840 h 347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1"/>
                  <a:pt x="10800" y="1762"/>
                </a:cubicBezTo>
                <a:lnTo>
                  <a:pt x="10800" y="9038"/>
                </a:lnTo>
                <a:cubicBezTo>
                  <a:pt x="10800" y="9919"/>
                  <a:pt x="5400" y="10800"/>
                  <a:pt x="0" y="10800"/>
                </a:cubicBezTo>
                <a:cubicBezTo>
                  <a:pt x="5400" y="10800"/>
                  <a:pt x="10800" y="11681"/>
                  <a:pt x="10800" y="12562"/>
                </a:cubicBezTo>
                <a:lnTo>
                  <a:pt x="10800" y="19838"/>
                </a:lnTo>
                <a:cubicBezTo>
                  <a:pt x="10800" y="2071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 rot="5400000">
            <a:off x="33966360" y="82522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ient-cent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7"/>
          <p:cNvSpPr/>
          <p:nvPr/>
        </p:nvSpPr>
        <p:spPr>
          <a:xfrm>
            <a:off x="34839360" y="10118880"/>
            <a:ext cx="271440" cy="931680"/>
          </a:xfrm>
          <a:custGeom>
            <a:avLst/>
            <a:gdLst>
              <a:gd name="textAreaLeft" fmla="*/ 173520 w 271440"/>
              <a:gd name="textAreaRight" fmla="*/ 271800 w 271440"/>
              <a:gd name="textAreaTop" fmla="*/ 23760 h 931680"/>
              <a:gd name="textAreaBottom" fmla="*/ 907920 h 93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1"/>
                  <a:pt x="10800" y="1762"/>
                </a:cubicBezTo>
                <a:lnTo>
                  <a:pt x="10800" y="9038"/>
                </a:lnTo>
                <a:cubicBezTo>
                  <a:pt x="10800" y="9919"/>
                  <a:pt x="5400" y="10800"/>
                  <a:pt x="0" y="10800"/>
                </a:cubicBezTo>
                <a:cubicBezTo>
                  <a:pt x="5400" y="10800"/>
                  <a:pt x="10800" y="11681"/>
                  <a:pt x="10800" y="12562"/>
                </a:cubicBezTo>
                <a:lnTo>
                  <a:pt x="10800" y="19838"/>
                </a:lnTo>
                <a:cubicBezTo>
                  <a:pt x="10800" y="2071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8"/>
          <p:cNvSpPr/>
          <p:nvPr/>
        </p:nvSpPr>
        <p:spPr>
          <a:xfrm rot="5400000">
            <a:off x="33861240" y="103082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ulation-cent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9"/>
          <p:cNvSpPr/>
          <p:nvPr/>
        </p:nvSpPr>
        <p:spPr>
          <a:xfrm>
            <a:off x="35326800" y="6648480"/>
            <a:ext cx="664344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5"/>
          <p:cNvSpPr/>
          <p:nvPr/>
        </p:nvSpPr>
        <p:spPr>
          <a:xfrm>
            <a:off x="35528400" y="9979200"/>
            <a:ext cx="209520" cy="284040"/>
          </a:xfrm>
          <a:prstGeom prst="downArrow">
            <a:avLst>
              <a:gd name="adj1" fmla="val 50000"/>
              <a:gd name="adj2" fmla="val 331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6"/>
          <p:cNvSpPr/>
          <p:nvPr/>
        </p:nvSpPr>
        <p:spPr>
          <a:xfrm>
            <a:off x="36122040" y="9979200"/>
            <a:ext cx="207720" cy="284040"/>
          </a:xfrm>
          <a:prstGeom prst="downArrow">
            <a:avLst>
              <a:gd name="adj1" fmla="val 50000"/>
              <a:gd name="adj2" fmla="val 33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7"/>
          <p:cNvSpPr/>
          <p:nvPr/>
        </p:nvSpPr>
        <p:spPr>
          <a:xfrm>
            <a:off x="36717120" y="9339120"/>
            <a:ext cx="208080" cy="284400"/>
          </a:xfrm>
          <a:prstGeom prst="downArrow">
            <a:avLst>
              <a:gd name="adj1" fmla="val 50000"/>
              <a:gd name="adj2" fmla="val 33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8"/>
          <p:cNvSpPr/>
          <p:nvPr/>
        </p:nvSpPr>
        <p:spPr>
          <a:xfrm>
            <a:off x="37312560" y="9339120"/>
            <a:ext cx="208080" cy="284400"/>
          </a:xfrm>
          <a:prstGeom prst="downArrow">
            <a:avLst>
              <a:gd name="adj1" fmla="val 50000"/>
              <a:gd name="adj2" fmla="val 33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9"/>
          <p:cNvSpPr/>
          <p:nvPr/>
        </p:nvSpPr>
        <p:spPr>
          <a:xfrm>
            <a:off x="37034640" y="10029960"/>
            <a:ext cx="208080" cy="284040"/>
          </a:xfrm>
          <a:prstGeom prst="downArrow">
            <a:avLst>
              <a:gd name="adj1" fmla="val 50000"/>
              <a:gd name="adj2" fmla="val 33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1"/>
          <p:cNvSpPr/>
          <p:nvPr/>
        </p:nvSpPr>
        <p:spPr>
          <a:xfrm>
            <a:off x="37757160" y="7535880"/>
            <a:ext cx="326880" cy="2652840"/>
          </a:xfrm>
          <a:prstGeom prst="downArrow">
            <a:avLst>
              <a:gd name="adj1" fmla="val 50000"/>
              <a:gd name="adj2" fmla="val 198645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graph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5"/>
          <p:cNvSpPr/>
          <p:nvPr/>
        </p:nvSpPr>
        <p:spPr>
          <a:xfrm>
            <a:off x="35766360" y="11161800"/>
            <a:ext cx="208080" cy="284040"/>
          </a:xfrm>
          <a:prstGeom prst="downArrow">
            <a:avLst>
              <a:gd name="adj1" fmla="val 50000"/>
              <a:gd name="adj2" fmla="val 33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9"/>
          <p:cNvSpPr/>
          <p:nvPr/>
        </p:nvSpPr>
        <p:spPr>
          <a:xfrm>
            <a:off x="37806480" y="11155320"/>
            <a:ext cx="207720" cy="284040"/>
          </a:xfrm>
          <a:prstGeom prst="downArrow">
            <a:avLst>
              <a:gd name="adj1" fmla="val 50000"/>
              <a:gd name="adj2" fmla="val 3347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0"/>
          <p:cNvSpPr/>
          <p:nvPr/>
        </p:nvSpPr>
        <p:spPr>
          <a:xfrm>
            <a:off x="35386920" y="7535880"/>
            <a:ext cx="209520" cy="284040"/>
          </a:xfrm>
          <a:prstGeom prst="downArrow">
            <a:avLst>
              <a:gd name="adj1" fmla="val 50000"/>
              <a:gd name="adj2" fmla="val 33183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1"/>
          <p:cNvSpPr/>
          <p:nvPr/>
        </p:nvSpPr>
        <p:spPr>
          <a:xfrm>
            <a:off x="36612360" y="7523280"/>
            <a:ext cx="208080" cy="284040"/>
          </a:xfrm>
          <a:prstGeom prst="downArrow">
            <a:avLst>
              <a:gd name="adj1" fmla="val 50000"/>
              <a:gd name="adj2" fmla="val 3341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2"/>
          <p:cNvSpPr/>
          <p:nvPr/>
        </p:nvSpPr>
        <p:spPr>
          <a:xfrm rot="10800000">
            <a:off x="36842760" y="7511760"/>
            <a:ext cx="209520" cy="284040"/>
          </a:xfrm>
          <a:prstGeom prst="downArrow">
            <a:avLst>
              <a:gd name="adj1" fmla="val 50000"/>
              <a:gd name="adj2" fmla="val 331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3"/>
          <p:cNvSpPr/>
          <p:nvPr/>
        </p:nvSpPr>
        <p:spPr>
          <a:xfrm rot="10800000">
            <a:off x="35641080" y="7508520"/>
            <a:ext cx="209520" cy="284040"/>
          </a:xfrm>
          <a:prstGeom prst="downArrow">
            <a:avLst>
              <a:gd name="adj1" fmla="val 50000"/>
              <a:gd name="adj2" fmla="val 331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5"/>
          <p:cNvSpPr/>
          <p:nvPr/>
        </p:nvSpPr>
        <p:spPr>
          <a:xfrm>
            <a:off x="36125280" y="7529400"/>
            <a:ext cx="209520" cy="284400"/>
          </a:xfrm>
          <a:prstGeom prst="downArrow">
            <a:avLst>
              <a:gd name="adj1" fmla="val 50000"/>
              <a:gd name="adj2" fmla="val 3322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6"/>
          <p:cNvSpPr/>
          <p:nvPr/>
        </p:nvSpPr>
        <p:spPr>
          <a:xfrm>
            <a:off x="37320480" y="7529400"/>
            <a:ext cx="209520" cy="284400"/>
          </a:xfrm>
          <a:prstGeom prst="downArrow">
            <a:avLst>
              <a:gd name="adj1" fmla="val 50000"/>
              <a:gd name="adj2" fmla="val 3322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0"/>
          <p:cNvSpPr/>
          <p:nvPr/>
        </p:nvSpPr>
        <p:spPr>
          <a:xfrm>
            <a:off x="35015760" y="6872760"/>
            <a:ext cx="4237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1"/>
          <p:cNvSpPr/>
          <p:nvPr/>
        </p:nvSpPr>
        <p:spPr>
          <a:xfrm>
            <a:off x="35066880" y="10067760"/>
            <a:ext cx="3628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tic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Freeform 51"/>
          <p:cNvGrpSpPr/>
          <p:nvPr/>
        </p:nvGrpSpPr>
        <p:grpSpPr>
          <a:xfrm>
            <a:off x="40555800" y="6627960"/>
            <a:ext cx="1519200" cy="3565440"/>
            <a:chOff x="40555800" y="6627960"/>
            <a:chExt cx="1519200" cy="3565440"/>
          </a:xfrm>
        </p:grpSpPr>
        <p:pic>
          <p:nvPicPr>
            <p:cNvPr id="167" name="Freeform 51" descr=""/>
            <p:cNvPicPr/>
            <p:nvPr/>
          </p:nvPicPr>
          <p:blipFill>
            <a:blip r:embed="rId16"/>
            <a:stretch/>
          </p:blipFill>
          <p:spPr>
            <a:xfrm>
              <a:off x="40555800" y="6627960"/>
              <a:ext cx="151920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0608360" y="6658200"/>
              <a:ext cx="1371600" cy="34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lication Development &amp; Integratio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Web  2.0 (SAAS, SOA)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Web 3.0 (Semantic We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76"/>
          <p:cNvSpPr/>
          <p:nvPr/>
        </p:nvSpPr>
        <p:spPr>
          <a:xfrm>
            <a:off x="40616280" y="7545240"/>
            <a:ext cx="209520" cy="284400"/>
          </a:xfrm>
          <a:prstGeom prst="downArrow">
            <a:avLst>
              <a:gd name="adj1" fmla="val 50000"/>
              <a:gd name="adj2" fmla="val 3322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6"/>
          <p:cNvSpPr/>
          <p:nvPr/>
        </p:nvSpPr>
        <p:spPr>
          <a:xfrm rot="16200000">
            <a:off x="40842360" y="6912720"/>
            <a:ext cx="209520" cy="284040"/>
          </a:xfrm>
          <a:prstGeom prst="downArrow">
            <a:avLst>
              <a:gd name="adj1" fmla="val 50000"/>
              <a:gd name="adj2" fmla="val 33183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6"/>
          <p:cNvSpPr/>
          <p:nvPr/>
        </p:nvSpPr>
        <p:spPr>
          <a:xfrm flipH="1" rot="5400000">
            <a:off x="40846320" y="7166880"/>
            <a:ext cx="207720" cy="284400"/>
          </a:xfrm>
          <a:prstGeom prst="downArrow">
            <a:avLst>
              <a:gd name="adj1" fmla="val 50000"/>
              <a:gd name="adj2" fmla="val 3351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2"/>
          <p:cNvSpPr/>
          <p:nvPr/>
        </p:nvSpPr>
        <p:spPr>
          <a:xfrm rot="2041800">
            <a:off x="40997880" y="69051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2"/>
          <p:cNvSpPr/>
          <p:nvPr/>
        </p:nvSpPr>
        <p:spPr>
          <a:xfrm rot="10800000">
            <a:off x="40829040" y="7519680"/>
            <a:ext cx="209520" cy="284040"/>
          </a:xfrm>
          <a:prstGeom prst="downArrow">
            <a:avLst>
              <a:gd name="adj1" fmla="val 50000"/>
              <a:gd name="adj2" fmla="val 331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210240" y="11700000"/>
            <a:ext cx="5187240" cy="3663720"/>
            <a:chOff x="27210240" y="11700000"/>
            <a:chExt cx="5187240" cy="3663720"/>
          </a:xfrm>
        </p:grpSpPr>
        <p:pic>
          <p:nvPicPr>
            <p:cNvPr id="175" name="Diagram 19" descr=""/>
            <p:cNvPicPr/>
            <p:nvPr/>
          </p:nvPicPr>
          <p:blipFill>
            <a:blip r:embed="rId17"/>
            <a:stretch/>
          </p:blipFill>
          <p:spPr>
            <a:xfrm>
              <a:off x="28627560" y="11700000"/>
              <a:ext cx="3769920" cy="366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88"/>
            <p:cNvGrpSpPr/>
            <p:nvPr/>
          </p:nvGrpSpPr>
          <p:grpSpPr>
            <a:xfrm>
              <a:off x="27210240" y="12134160"/>
              <a:ext cx="1601640" cy="1580040"/>
              <a:chOff x="27210240" y="12134160"/>
              <a:chExt cx="1601640" cy="1580040"/>
            </a:xfrm>
          </p:grpSpPr>
          <p:pic>
            <p:nvPicPr>
              <p:cNvPr id="177" name="Picture 4" descr="C:\Program Files\Microsoft Office\MEDIA\CAGCAT10\j0233018.wmf"/>
              <p:cNvPicPr/>
              <p:nvPr/>
            </p:nvPicPr>
            <p:blipFill>
              <a:blip r:embed="rId18"/>
              <a:stretch/>
            </p:blipFill>
            <p:spPr>
              <a:xfrm>
                <a:off x="27210240" y="12558600"/>
                <a:ext cx="1137240" cy="11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Box 52"/>
              <p:cNvSpPr/>
              <p:nvPr/>
            </p:nvSpPr>
            <p:spPr>
              <a:xfrm>
                <a:off x="27287640" y="13070160"/>
                <a:ext cx="129564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Investi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3"/>
              <p:cNvSpPr/>
              <p:nvPr/>
            </p:nvSpPr>
            <p:spPr>
              <a:xfrm>
                <a:off x="27759960" y="12134160"/>
                <a:ext cx="1051920" cy="500400"/>
              </a:xfrm>
              <a:prstGeom prst="pie">
                <a:avLst/>
              </a:prstGeom>
              <a:noFill/>
              <a:ln w="38160">
                <a:solidFill>
                  <a:srgbClr val="98480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67"/>
              <p:cNvSpPr/>
              <p:nvPr/>
            </p:nvSpPr>
            <p:spPr>
              <a:xfrm>
                <a:off x="27287640" y="13302000"/>
                <a:ext cx="129564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gat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30313440" y="9248760"/>
            <a:ext cx="1676160" cy="1066680"/>
          </a:xfrm>
          <a:prstGeom prst="leftArrow">
            <a:avLst>
              <a:gd name="adj1" fmla="val 50000"/>
              <a:gd name="adj2" fmla="val 392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Ref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Conv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Integ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ectangle 160"/>
          <p:cNvGrpSpPr/>
          <p:nvPr/>
        </p:nvGrpSpPr>
        <p:grpSpPr>
          <a:xfrm>
            <a:off x="26212680" y="8793000"/>
            <a:ext cx="4187880" cy="2055960"/>
            <a:chOff x="26212680" y="8793000"/>
            <a:chExt cx="4187880" cy="2055960"/>
          </a:xfrm>
        </p:grpSpPr>
        <p:pic>
          <p:nvPicPr>
            <p:cNvPr id="183" name="Rectangle 160" descr=""/>
            <p:cNvPicPr/>
            <p:nvPr/>
          </p:nvPicPr>
          <p:blipFill>
            <a:blip r:embed="rId19"/>
            <a:stretch/>
          </p:blipFill>
          <p:spPr>
            <a:xfrm>
              <a:off x="26212680" y="8793000"/>
              <a:ext cx="41878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6289360" y="8869320"/>
              <a:ext cx="4031280" cy="19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8e7ed"/>
                  </a:solidFill>
                  <a:latin typeface="Arial"/>
                </a:rPr>
                <a:t>CCF SemanticDB</a:t>
              </a:r>
              <a:r>
                <a:rPr b="1" lang="en-US" sz="1400" spc="-1" strike="noStrike">
                  <a:solidFill>
                    <a:srgbClr val="e8e7ed"/>
                  </a:solidFill>
                  <a:latin typeface="Arial"/>
                  <a:ea typeface="Arial"/>
                </a:rPr>
                <a:t>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ectangle 178"/>
          <p:cNvGrpSpPr/>
          <p:nvPr/>
        </p:nvGrpSpPr>
        <p:grpSpPr>
          <a:xfrm>
            <a:off x="31602240" y="5495760"/>
            <a:ext cx="1960560" cy="2630520"/>
            <a:chOff x="31602240" y="5495760"/>
            <a:chExt cx="1960560" cy="2630520"/>
          </a:xfrm>
        </p:grpSpPr>
        <p:pic>
          <p:nvPicPr>
            <p:cNvPr id="186" name="Rectangle 178" descr=""/>
            <p:cNvPicPr/>
            <p:nvPr/>
          </p:nvPicPr>
          <p:blipFill>
            <a:blip r:embed="rId20"/>
            <a:stretch/>
          </p:blipFill>
          <p:spPr>
            <a:xfrm>
              <a:off x="31602240" y="5495760"/>
              <a:ext cx="19605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1629240" y="5522400"/>
              <a:ext cx="1911960" cy="25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33"/>
          <p:cNvSpPr/>
          <p:nvPr/>
        </p:nvSpPr>
        <p:spPr>
          <a:xfrm>
            <a:off x="31937400" y="5602320"/>
            <a:ext cx="1271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3"/>
          <p:cNvGrpSpPr/>
          <p:nvPr/>
        </p:nvGrpSpPr>
        <p:grpSpPr>
          <a:xfrm>
            <a:off x="32241960" y="6059520"/>
            <a:ext cx="746280" cy="1165320"/>
            <a:chOff x="32241960" y="6059520"/>
            <a:chExt cx="746280" cy="1165320"/>
          </a:xfrm>
        </p:grpSpPr>
        <p:sp>
          <p:nvSpPr>
            <p:cNvPr id="190" name="Line 4"/>
            <p:cNvSpPr/>
            <p:nvPr/>
          </p:nvSpPr>
          <p:spPr>
            <a:xfrm flipH="1">
              <a:off x="32445000" y="6303600"/>
              <a:ext cx="324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 flipH="1">
              <a:off x="32470200" y="6987600"/>
              <a:ext cx="324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130" descr="C:\WINDOWS\Application Data\Microsoft\Media Catalog\Downloaded Clips\cl65\j0254504.gif"/>
            <p:cNvPicPr/>
            <p:nvPr/>
          </p:nvPicPr>
          <p:blipFill>
            <a:blip r:embed="rId21"/>
            <a:stretch/>
          </p:blipFill>
          <p:spPr>
            <a:xfrm>
              <a:off x="32543640" y="6059520"/>
              <a:ext cx="44460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31" descr="C:\WINDOWS\Application Data\Microsoft\Media Catalog\Downloaded Clips\cl65\j0254504.gif"/>
            <p:cNvPicPr/>
            <p:nvPr/>
          </p:nvPicPr>
          <p:blipFill>
            <a:blip r:embed="rId22"/>
            <a:stretch/>
          </p:blipFill>
          <p:spPr>
            <a:xfrm>
              <a:off x="32543640" y="640080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32" descr="C:\WINDOWS\Application Data\Microsoft\Media Catalog\Downloaded Clips\cl65\j0254504.gif"/>
            <p:cNvPicPr/>
            <p:nvPr/>
          </p:nvPicPr>
          <p:blipFill>
            <a:blip r:embed="rId23"/>
            <a:stretch/>
          </p:blipFill>
          <p:spPr>
            <a:xfrm>
              <a:off x="32543640" y="674208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134"/>
            <p:cNvSpPr/>
            <p:nvPr/>
          </p:nvSpPr>
          <p:spPr>
            <a:xfrm>
              <a:off x="32464440" y="6284160"/>
              <a:ext cx="0" cy="765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35" descr="C:\WINDOWS\Application Data\Microsoft\Media Catalog\Downloaded Clips\cl65\j0254504.gif"/>
            <p:cNvPicPr/>
            <p:nvPr/>
          </p:nvPicPr>
          <p:blipFill>
            <a:blip r:embed="rId24"/>
            <a:stretch/>
          </p:blipFill>
          <p:spPr>
            <a:xfrm>
              <a:off x="32241960" y="6059520"/>
              <a:ext cx="4402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6" descr="C:\WINDOWS\Application Data\Microsoft\Media Catalog\Downloaded Clips\cl65\j0254504.gif"/>
            <p:cNvPicPr/>
            <p:nvPr/>
          </p:nvPicPr>
          <p:blipFill>
            <a:blip r:embed="rId25"/>
            <a:stretch/>
          </p:blipFill>
          <p:spPr>
            <a:xfrm>
              <a:off x="32241960" y="6400800"/>
              <a:ext cx="4402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7" descr="C:\WINDOWS\Application Data\Microsoft\Media Catalog\Downloaded Clips\cl65\j0254504.gif"/>
            <p:cNvPicPr/>
            <p:nvPr/>
          </p:nvPicPr>
          <p:blipFill>
            <a:blip r:embed="rId26"/>
            <a:stretch/>
          </p:blipFill>
          <p:spPr>
            <a:xfrm>
              <a:off x="32241960" y="6742080"/>
              <a:ext cx="440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64"/>
            <p:cNvSpPr/>
            <p:nvPr/>
          </p:nvSpPr>
          <p:spPr>
            <a:xfrm>
              <a:off x="32335560" y="6163560"/>
              <a:ext cx="246600" cy="26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5"/>
            <p:cNvSpPr/>
            <p:nvPr/>
          </p:nvSpPr>
          <p:spPr>
            <a:xfrm>
              <a:off x="32645880" y="6163560"/>
              <a:ext cx="246600" cy="26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66"/>
            <p:cNvSpPr/>
            <p:nvPr/>
          </p:nvSpPr>
          <p:spPr>
            <a:xfrm>
              <a:off x="32335560" y="6504480"/>
              <a:ext cx="246600" cy="26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67"/>
            <p:cNvSpPr/>
            <p:nvPr/>
          </p:nvSpPr>
          <p:spPr>
            <a:xfrm>
              <a:off x="32645880" y="6504480"/>
              <a:ext cx="246600" cy="26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68"/>
            <p:cNvSpPr/>
            <p:nvPr/>
          </p:nvSpPr>
          <p:spPr>
            <a:xfrm>
              <a:off x="32335560" y="6845400"/>
              <a:ext cx="246600" cy="26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69"/>
            <p:cNvSpPr/>
            <p:nvPr/>
          </p:nvSpPr>
          <p:spPr>
            <a:xfrm>
              <a:off x="32645880" y="6845400"/>
              <a:ext cx="246600" cy="267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Flowchart: Magnetic Disk 147"/>
          <p:cNvSpPr/>
          <p:nvPr/>
        </p:nvSpPr>
        <p:spPr>
          <a:xfrm>
            <a:off x="28027440" y="100220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5a92e4"/>
              </a:gs>
              <a:gs pos="100000">
                <a:srgbClr val="eae9ef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F SQL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owchart: Magnetic Disk 150"/>
          <p:cNvSpPr/>
          <p:nvPr/>
        </p:nvSpPr>
        <p:spPr>
          <a:xfrm>
            <a:off x="28027440" y="9550440"/>
            <a:ext cx="1981080" cy="625320"/>
          </a:xfrm>
          <a:prstGeom prst="flowChartMagneticDisk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Triple-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lowchart: Magnetic Disk 151"/>
          <p:cNvSpPr/>
          <p:nvPr/>
        </p:nvSpPr>
        <p:spPr>
          <a:xfrm>
            <a:off x="28027440" y="91076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0c41b8"/>
              </a:gs>
              <a:gs pos="100000">
                <a:srgbClr val="ffebfa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Rectangle 154"/>
          <p:cNvGrpSpPr/>
          <p:nvPr/>
        </p:nvGrpSpPr>
        <p:grpSpPr>
          <a:xfrm>
            <a:off x="31583160" y="7531200"/>
            <a:ext cx="2006640" cy="707760"/>
            <a:chOff x="31583160" y="7531200"/>
            <a:chExt cx="2006640" cy="707760"/>
          </a:xfrm>
        </p:grpSpPr>
        <p:pic>
          <p:nvPicPr>
            <p:cNvPr id="209" name="Rectangle 154" descr=""/>
            <p:cNvPicPr/>
            <p:nvPr/>
          </p:nvPicPr>
          <p:blipFill>
            <a:blip r:embed="rId27"/>
            <a:stretch/>
          </p:blipFill>
          <p:spPr>
            <a:xfrm>
              <a:off x="31583160" y="7531200"/>
              <a:ext cx="20066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1695120" y="7645680"/>
              <a:ext cx="17762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antic Knowledge-Sour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ectangle 163"/>
          <p:cNvGrpSpPr/>
          <p:nvPr/>
        </p:nvGrpSpPr>
        <p:grpSpPr>
          <a:xfrm>
            <a:off x="26322480" y="5934240"/>
            <a:ext cx="1941480" cy="1180800"/>
            <a:chOff x="26322480" y="5934240"/>
            <a:chExt cx="1941480" cy="1180800"/>
          </a:xfrm>
        </p:grpSpPr>
        <p:pic>
          <p:nvPicPr>
            <p:cNvPr id="212" name="Rectangle 163" descr=""/>
            <p:cNvPicPr/>
            <p:nvPr/>
          </p:nvPicPr>
          <p:blipFill>
            <a:blip r:embed="rId28"/>
            <a:stretch/>
          </p:blipFill>
          <p:spPr>
            <a:xfrm>
              <a:off x="26322480" y="5934240"/>
              <a:ext cx="19414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6437680" y="6045840"/>
              <a:ext cx="1707840" cy="9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Query For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ectangle 175"/>
          <p:cNvGrpSpPr/>
          <p:nvPr/>
        </p:nvGrpSpPr>
        <p:grpSpPr>
          <a:xfrm>
            <a:off x="26322480" y="7226280"/>
            <a:ext cx="1941480" cy="1181160"/>
            <a:chOff x="26322480" y="7226280"/>
            <a:chExt cx="1941480" cy="1181160"/>
          </a:xfrm>
        </p:grpSpPr>
        <p:pic>
          <p:nvPicPr>
            <p:cNvPr id="215" name="Rectangle 175" descr=""/>
            <p:cNvPicPr/>
            <p:nvPr/>
          </p:nvPicPr>
          <p:blipFill>
            <a:blip r:embed="rId29"/>
            <a:stretch/>
          </p:blipFill>
          <p:spPr>
            <a:xfrm>
              <a:off x="26322480" y="7226280"/>
              <a:ext cx="19414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6437680" y="7341120"/>
              <a:ext cx="1707840" cy="9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l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30"/>
          <a:stretch/>
        </p:blipFill>
        <p:spPr>
          <a:xfrm>
            <a:off x="31227840" y="8794800"/>
            <a:ext cx="2361960" cy="1825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913640" y="94773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2522760" y="8158320"/>
            <a:ext cx="4680" cy="690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16640" y="5027760"/>
            <a:ext cx="705168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DB Supports Three Modes of Data Col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ur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grammatic import of legac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ush and pull data feeds from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uto-generated forms for manual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7.valve-replacement-data-entry-crop2" descr=""/>
          <p:cNvPicPr/>
          <p:nvPr/>
        </p:nvPicPr>
        <p:blipFill>
          <a:blip r:embed="rId31"/>
          <a:stretch/>
        </p:blipFill>
        <p:spPr>
          <a:xfrm>
            <a:off x="18388080" y="8639280"/>
            <a:ext cx="6296040" cy="862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31920" y="5027760"/>
            <a:ext cx="711216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Data Management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ed &amp; Redundant Data Collection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poor database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ata collection and integr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xpressive Model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contain im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for modeling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ative support for inference &amp; intelligent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guous &amp; Idiosyncra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s often poorly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conflicts a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325360" y="502776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DB Query Infra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325360" y="11242800"/>
            <a:ext cx="54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Language Quer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25360" y="15722640"/>
            <a:ext cx="70297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Export &amp; Repor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access to RDF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tic generation of standard export module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44120" y="5027760"/>
            <a:ext cx="691524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 Data Management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pt any kind of data without refactoring of data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odel and metadata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mal knowledge representation with transforms between KR dia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ighly distrib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ndles enterprise-scale data manage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sed on emerging W3C standards (XML,RDF, OWL, GRDD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15520" y="9871200"/>
            <a:ext cx="69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D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0360600" y="8163000"/>
            <a:ext cx="1228680" cy="695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903480" y="6829560"/>
            <a:ext cx="685800" cy="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13480" y="7229520"/>
            <a:ext cx="0" cy="352440"/>
          </a:xfrm>
          <a:prstGeom prst="line">
            <a:avLst/>
          </a:prstGeom>
          <a:ln w="255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207800" y="6476760"/>
            <a:ext cx="909720" cy="3855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93760" y="7253280"/>
            <a:ext cx="880920" cy="528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736040" y="5072040"/>
            <a:ext cx="655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DB as an Enterprise-Wide Population-Centric Clinical Data Reposi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736040" y="12047400"/>
            <a:ext cx="695340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SemanticD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Growth of Med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extensibility to new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outcom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Data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data collection costs and error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Data Acc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int of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Data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knowledge representation supports automate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54:23Z</dcterms:created>
  <dc:creator> Terri OBrian</dc:creator>
  <dc:description/>
  <dc:language>en-US</dc:language>
  <cp:lastModifiedBy>Chris Pierce</cp:lastModifiedBy>
  <cp:lastPrinted>2005-09-09T20:10:53Z</cp:lastPrinted>
  <dcterms:modified xsi:type="dcterms:W3CDTF">2007-11-04T16:33:20Z</dcterms:modified>
  <cp:revision>32</cp:revision>
  <dc:subject/>
  <dc:title>Slide 1</dc:title>
</cp:coreProperties>
</file>